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Line"/>
          <p:cNvSpPr/>
          <p:nvPr/>
        </p:nvSpPr>
        <p:spPr>
          <a:xfrm>
            <a:off x="0" y="656748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0" name="SmallBlue" descr=""/>
          <p:cNvPicPr/>
          <p:nvPr/>
        </p:nvPicPr>
        <p:blipFill>
          <a:blip r:embed="rId2"/>
          <a:stretch/>
        </p:blipFill>
        <p:spPr>
          <a:xfrm>
            <a:off x="8231040" y="6626160"/>
            <a:ext cx="652680" cy="169920"/>
          </a:xfrm>
          <a:prstGeom prst="rect">
            <a:avLst/>
          </a:prstGeom>
          <a:ln w="0">
            <a:noFill/>
          </a:ln>
        </p:spPr>
      </p:pic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196120" y="6607080"/>
            <a:ext cx="776520" cy="2016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7602840" y="65977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1F6F6F9-1701-441E-9AEE-82F735942FF1}" type="slidenum">
              <a:rPr b="0" lang="en-US" sz="1000" spc="-1" strike="noStrike">
                <a:solidFill>
                  <a:srgbClr val="645a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6360" y="277452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0" y="-79200"/>
            <a:ext cx="168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hdl.org/pub/ibis/quality_wip" TargetMode="External"/><Relationship Id="rId2" Type="http://schemas.openxmlformats.org/officeDocument/2006/relationships/hyperlink" Target="http://www.vhdl.org/pub/ibis/quality_wip" TargetMode="External"/><Relationship Id="rId3" Type="http://schemas.openxmlformats.org/officeDocument/2006/relationships/hyperlink" Target="http://www.freelists.org/list/ibis-quality" TargetMode="External"/><Relationship Id="rId4" Type="http://schemas.openxmlformats.org/officeDocument/2006/relationships/hyperlink" Target="http://www.freelists.org/list/ibis-quality" TargetMode="External"/><Relationship Id="rId5" Type="http://schemas.openxmlformats.org/officeDocument/2006/relationships/hyperlink" Target="http://www.freelists.org/list/ibis-quality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1280" y="92988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258"/>
                </a:solidFill>
                <a:latin typeface="Arial"/>
              </a:rPr>
              <a:t>IBIS Quality Review</a:t>
            </a:r>
            <a:endParaRPr b="0" lang="en-US" sz="49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8444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Asian IBIS Summit, Shanghai China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November 4, 2009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120" y="5653080"/>
            <a:ext cx="853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360" y="2004840"/>
            <a:ext cx="853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5a59"/>
                </a:solidFill>
                <a:latin typeface="Arial"/>
              </a:rPr>
              <a:t>A status review of the IBIS Quality specification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Level 4 (Power) Checks for future releases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27040" y="1698480"/>
            <a:ext cx="79405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 [Pin Mapping] Complete and Correct check was propos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ower analysis really needs new features: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5 - Power Integrity Analysis using IBI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8 - Gate Modulation Effect (table format)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BIS 5.0 adoption still in progres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 5.1 may be submitted for EIA/ANSI standardization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CHK 5.0 parser released October 2009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Have not yet seen IBIS 5.0 power keywords in IBIS fi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checks are planned for future IQ 2.x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Notes on IQ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20640" y="1521000"/>
            <a:ext cx="79758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ossible Errors” section remov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ome items made into regular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orrelation” section minimiz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fers to IBIS Accuracy Handbook for detail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C vendor push-back on overshoot paramet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Not many IBIS files have th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uffer developers simply do not measure it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ifference between functional and destruction limit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IRD103 D_overshoot parameters may work better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IQ Version 2.0 Statu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44 draft revisions post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n review phase for IBIS Open Forum acceptance vote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view phase in 3 consecutive Open Forum meetings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cceptance vote scheduled for October 30, 2009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3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After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le parser bug report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Update the IBIS Accuracy Handboo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Emphasis on feature-selective corre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Begin drafting IQ 2.x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power analysis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638280" y="549360"/>
            <a:ext cx="8145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Regular 2009 IQ Meeting Participant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55560" y="1521000"/>
            <a:ext cx="794088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isco System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Huawei Technologie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Micron Technology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kia Siemens Network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xas Instruments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raspeed Consulting Group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Xilinx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714280" y="5997600"/>
            <a:ext cx="2944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* IBIS model mak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645a59"/>
                </a:solidFill>
                <a:latin typeface="Arial"/>
              </a:rPr>
              <a:t>Future IQ expectation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Q adoption by IC vendor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Adoption by library flow in system companie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BIS modeling tools implementing the IQ check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LargeBlue" descr="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6" name="LargeTakeBlue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7" name="LargeWhite" descr=""/>
          <p:cNvPicPr/>
          <p:nvPr/>
        </p:nvPicPr>
        <p:blipFill>
          <a:blip r:embed="rId3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8" name="LargeTakeWhite" descr=""/>
          <p:cNvPicPr/>
          <p:nvPr/>
        </p:nvPicPr>
        <p:blipFill>
          <a:blip r:embed="rId4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8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BIS Quality Task Group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6" name="Rectangle 129"/>
          <p:cNvSpPr/>
          <p:nvPr/>
        </p:nvSpPr>
        <p:spPr>
          <a:xfrm>
            <a:off x="655560" y="1521000"/>
            <a:ext cx="794088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Web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2"/>
              </a:rPr>
              <a:t>www.vhdl.org/pub/ibis/quality_wip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Email list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4"/>
              </a:rPr>
              <a:t>www.freelists.org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5"/>
              </a:rPr>
              <a:t>/list/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Or send email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o: ibis-quality-request@freelists.org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Subject: subscrib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Meetings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uesdays from 11:00am to 12:00pm Eastern Tim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Questions? Mike LaBonte milabont@cisco.com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Brief History</a:t>
            </a: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90680" y="1521000"/>
            <a:ext cx="829152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2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arry Katz started 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4 Novem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0 specification comple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5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0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4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pril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ook “Semiconductor Modeling” discusses IQ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(Roy Leventhal, Lynne Green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1 specification initi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2009 August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- IQ 1.1 renamed IQ 2.0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9 Octo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2.0 approval expec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an be checked by IBISCHK, plus a few other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orrectness, completeness, and simulation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a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b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ench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and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ssues with IQ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2720" y="1521000"/>
            <a:ext cx="798372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assing IQ Level 0 does not sound like much of an accomplishment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s a non-compliant file level -1?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ere should be a strict level for “Passes IBISCHK”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 other IQ check should duplicate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an’t have a correlated model without full IQ chec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ome checks are weak (“should” vs. “must”)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eedback from JEITA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0      Not Check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1      Passes IBISCHK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2      Suitable for Waveform Simu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3      Suitable for Timing Analys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4      Suitable for Power Analysis * (defined, but no checks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pecial Designato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         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       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X         Exception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G         Has Golden Wavefor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6484320" y="4278240"/>
            <a:ext cx="1727280" cy="1690920"/>
            <a:chOff x="6484320" y="4278240"/>
            <a:chExt cx="1727280" cy="1690920"/>
          </a:xfrm>
        </p:grpSpPr>
        <p:sp>
          <p:nvSpPr>
            <p:cNvPr id="106" name="Freeform 5"/>
            <p:cNvSpPr/>
            <p:nvPr/>
          </p:nvSpPr>
          <p:spPr>
            <a:xfrm>
              <a:off x="6485040" y="4325760"/>
              <a:ext cx="1473120" cy="140976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928" h="888">
                  <a:moveTo>
                    <a:pt x="240" y="736"/>
                  </a:moveTo>
                  <a:cubicBezTo>
                    <a:pt x="184" y="712"/>
                    <a:pt x="120" y="648"/>
                    <a:pt x="96" y="592"/>
                  </a:cubicBezTo>
                  <a:cubicBezTo>
                    <a:pt x="72" y="536"/>
                    <a:pt x="112" y="448"/>
                    <a:pt x="96" y="400"/>
                  </a:cubicBezTo>
                  <a:cubicBezTo>
                    <a:pt x="80" y="352"/>
                    <a:pt x="0" y="360"/>
                    <a:pt x="0" y="304"/>
                  </a:cubicBezTo>
                  <a:cubicBezTo>
                    <a:pt x="0" y="248"/>
                    <a:pt x="16" y="112"/>
                    <a:pt x="96" y="64"/>
                  </a:cubicBezTo>
                  <a:cubicBezTo>
                    <a:pt x="176" y="16"/>
                    <a:pt x="368" y="0"/>
                    <a:pt x="480" y="16"/>
                  </a:cubicBezTo>
                  <a:cubicBezTo>
                    <a:pt x="592" y="32"/>
                    <a:pt x="704" y="96"/>
                    <a:pt x="768" y="160"/>
                  </a:cubicBezTo>
                  <a:cubicBezTo>
                    <a:pt x="832" y="224"/>
                    <a:pt x="840" y="312"/>
                    <a:pt x="864" y="400"/>
                  </a:cubicBezTo>
                  <a:cubicBezTo>
                    <a:pt x="888" y="488"/>
                    <a:pt x="928" y="608"/>
                    <a:pt x="912" y="688"/>
                  </a:cubicBezTo>
                  <a:cubicBezTo>
                    <a:pt x="896" y="768"/>
                    <a:pt x="816" y="872"/>
                    <a:pt x="768" y="880"/>
                  </a:cubicBezTo>
                  <a:cubicBezTo>
                    <a:pt x="720" y="888"/>
                    <a:pt x="680" y="760"/>
                    <a:pt x="624" y="736"/>
                  </a:cubicBezTo>
                  <a:cubicBezTo>
                    <a:pt x="568" y="712"/>
                    <a:pt x="496" y="736"/>
                    <a:pt x="432" y="736"/>
                  </a:cubicBezTo>
                  <a:cubicBezTo>
                    <a:pt x="368" y="736"/>
                    <a:pt x="296" y="760"/>
                    <a:pt x="240" y="736"/>
                  </a:cubicBezTo>
                  <a:close/>
                </a:path>
              </a:pathLst>
            </a:custGeom>
            <a:solidFill>
              <a:srgbClr val="457346"/>
            </a:solidFill>
            <a:ln w="9360">
              <a:solidFill>
                <a:srgbClr val="a094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6712920" y="48592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0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7246440" y="47829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3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6971760" y="44481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2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6484320" y="45543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1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7170120" y="50878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4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7647120" y="4278240"/>
              <a:ext cx="4194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7844040" y="483876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7055280" y="555768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The Only LEVEL 1 Check (IBISCHK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87280" y="1333440"/>
            <a:ext cx="85917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Courier New"/>
              </a:rPr>
              <a:t>2.1 {LEVEL 1}  IBIS file passes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960" y="1830240"/>
            <a:ext cx="8236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Checking a123_test.ibs for IBIS 4.1 Compatibility...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(line  446) - [Receiver Thresholds] should be specified immediately after all th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subparameters of a model and before the other keywords of a model except [Model Spec]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- Model DQ_FULL Receiver Thresholds: Tslew_ac must be specified for singl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nded receivers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down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ax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FULL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s  : 2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s: 5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File Failed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2 Checks (Waveforms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1760" y="1603440"/>
            <a:ext cx="82915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7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Combined I-V tables are monotonic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8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down] I-V tables pass through zero/zero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9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up] I-V tables pass through zero/zeroI-V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0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No leakage current in clamp tab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I-V behavior not double-counted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3 Checks (Timing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26960" y="1595520"/>
            <a:ext cx="8121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Pin] RLC parasitics are present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3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Diff Pin] Vdiff and Tdelay_* complete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] Vinl and Vinh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 Spec] Vinl and Vinh reasonable</a:t>
            </a:r>
            <a:r>
              <a:rPr b="0" lang="en-US" sz="1800" spc="-1" strike="noStrike" u="sng">
                <a:solidFill>
                  <a:srgbClr val="003258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>Anders Ekholm</dc:creator>
  <dc:description>Rev PA1</dc:description>
  <cp:keywords>IBIS SUMMIT 2009 ASIA</cp:keywords>
  <dc:language>en-US</dc:language>
  <cp:lastModifiedBy>Bob Ross</cp:lastModifiedBy>
  <dcterms:modified xsi:type="dcterms:W3CDTF">2009-10-01T06:25:40Z</dcterms:modified>
  <cp:revision>82</cp:revision>
  <dc:subject/>
  <dc:title>IBIS Quality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9-2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>IBIS SUMMIT 2009 ASIA</vt:lpwstr>
  </property>
  <property fmtid="{D5CDD505-2E9C-101B-9397-08002B2CF9AE}" pid="11" name="LeftFooterField">
    <vt:lpwstr>© Ericsson AB 2009</vt:lpwstr>
  </property>
  <property fmtid="{D5CDD505-2E9C-101B-9397-08002B2CF9AE}" pid="12" name="MiddleFooterField">
    <vt:lpwstr>Public</vt:lpwstr>
  </property>
  <property fmtid="{D5CDD505-2E9C-101B-9397-08002B2CF9AE}" pid="13" name="Pages">
    <vt:bool>1</vt:bool>
  </property>
  <property fmtid="{D5CDD505-2E9C-101B-9397-08002B2CF9AE}" pid="14" name="Prepared">
    <vt:lpwstr>Anders Ekholm</vt:lpwstr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9-25</vt:lpwstr>
  </property>
  <property fmtid="{D5CDD505-2E9C-101B-9397-08002B2CF9AE}" pid="19" name="SecurityClass">
    <vt:lpwstr>Public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</vt:lpwstr>
  </property>
  <property fmtid="{D5CDD505-2E9C-101B-9397-08002B2CF9AE}" pid="23" name="TemplateVersion2">
    <vt:lpwstr>R1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0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1</vt:bool>
  </property>
  <property fmtid="{D5CDD505-2E9C-101B-9397-08002B2CF9AE}" pid="34" name="optFooterCVLCopyright">
    <vt:bool>1</vt:bool>
  </property>
  <property fmtid="{D5CDD505-2E9C-101B-9397-08002B2CF9AE}" pid="35" name="optFooterCVLDate">
    <vt:bool>1</vt:bool>
  </property>
  <property fmtid="{D5CDD505-2E9C-101B-9397-08002B2CF9AE}" pid="36" name="optFooterCVLDocNo">
    <vt:bool>0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Public</vt:lpwstr>
  </property>
  <property fmtid="{D5CDD505-2E9C-101B-9397-08002B2CF9AE}" pid="42" name="x">
    <vt:lpwstr>1</vt:lpwstr>
  </property>
</Properties>
</file>